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ct" ContentType="image/x-pict"/>
  <Override PartName="/ppt/media/image6.jpeg" ContentType="image/jpeg"/>
  <Override PartName="/ppt/media/image10.pct" ContentType="image/x-pict"/>
  <Override PartName="/ppt/media/image7.jpeg" ContentType="image/jpeg"/>
  <Override PartName="/ppt/media/image8.jpeg" ContentType="image/jpeg"/>
  <Override PartName="/ppt/media/image9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CBBF-330B-4ADA-BF60-23A0C6918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5AE6-63EF-480F-AD30-823DB9A1D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ECFF-81DE-4228-BCD9-440C683A5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78C3-0B6F-4459-93B9-0D2310C85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F shh mutants have some but not all characteristics of holoprosencephaly.  Oep mutants do.  Now know that Nodal is upstream regulator of Shh.  Oep is cofactor required for Nodal signaling and a target for therapeutic treatment of disea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BC14-8BC7-4181-B15A-7E358DD4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324-BB5A-44D3-8B7A-52F54A06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4C99-6FE1-4A63-8167-9731194E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EFC-075B-4E0A-BD34-49F5C7FD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EA42-78A0-4E12-854B-FF0D0B96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54F-BCCC-43E1-B4C0-FB3B85B32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5749-B54E-4945-BF84-46503362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1B9F-104B-4C6B-B3E9-090948C6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7DEE-6D42-4099-9746-382A9D1C8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D9C-F10C-4BC1-B204-200CBA0D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12FB-EC44-464E-B860-6630F271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E8F-354C-4866-B04C-4BC9645C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6147-D725-45DD-918A-B9FB7F50A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52480" y="4019400"/>
            <a:ext cx="2057400" cy="1084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34120" y="4019400"/>
            <a:ext cx="2133360" cy="1086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33520" y="457200"/>
            <a:ext cx="2554200" cy="895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609480" y="20574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Linking Anima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Models to Human Disea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962520" y="4019400"/>
            <a:ext cx="1218960" cy="1070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09480" y="5410080"/>
            <a:ext cx="7925040" cy="6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ported by NIH P41 HG002659 and U54 HG002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e University of Oregon, Eugene,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90280" y="6172200"/>
            <a:ext cx="21315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zf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4920" y="549360"/>
            <a:ext cx="8686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549360"/>
            <a:ext cx="86868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5480" y="3079800"/>
            <a:ext cx="4039560" cy="320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ribute =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alue =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3079800"/>
            <a:ext cx="3098880" cy="31831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FI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mid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ity = kidn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77080" y="3900600"/>
            <a:ext cx="52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9080" y="2100240"/>
            <a:ext cx="371952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tomic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 &amp; tissue ontolog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ment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ological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lecula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13360" y="316872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+     PA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2080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haracter =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+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urier New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549360"/>
            <a:ext cx="8686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ey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placemen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misloc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midfac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truc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opla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kidne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siz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hypertroph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048120"/>
            <a:ext cx="83059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or disease)  =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+  PC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  <a:ea typeface="ＭＳ Ｐゴシック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holoprosenceph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40240" y="24768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 hol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prosenceph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11680" y="24768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77120" y="2635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Zebra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oep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1044720"/>
          <a:ext cx="8001000" cy="5889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44720"/>
                    <a:ext cx="8001000" cy="58896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8120" y="68580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2590920"/>
            <a:ext cx="3429000" cy="33526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0280" y="1622520"/>
            <a:ext cx="120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M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04320" y="3755880"/>
            <a:ext cx="136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ZF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41760" y="3755880"/>
            <a:ext cx="154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y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u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380880" y="1397160"/>
          <a:ext cx="8382240" cy="3609720"/>
        </p:xfrm>
        <a:graphic>
          <a:graphicData uri="http://schemas.openxmlformats.org/drawingml/2006/table">
            <a:tbl>
              <a:tblPr/>
              <a:tblGrid>
                <a:gridCol w="6793200"/>
                <a:gridCol w="1589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    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ourier New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 </a:t>
                      </a:r>
                      <a:r>
                        <a:rPr b="1" lang="en-US" sz="2400" spc="-1" strike="noStrike" u="sng">
                          <a:solidFill>
                            <a:srgbClr val="ffffff"/>
                          </a:solidFill>
                          <a:uFillTx/>
                          <a:latin typeface="Courier New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Total ZFIN g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0,3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enes with assigned human ortholog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,8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Genes with OMIM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,1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Total ZFIN muta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3,1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ZFIN mutants with OMIM lin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Corresponding human g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Drosophila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 homologs of these 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2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</a:rPr>
                        <a:t>1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6920" y="976320"/>
            <a:ext cx="777024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Courier New"/>
                <a:ea typeface="ＭＳ Ｐゴシック"/>
              </a:rPr>
              <a:t>PATO development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est curation of zebrafish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nitial curation of phen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200 zebrafish mutations(Tübingen, M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orpholino phenotypes (Univ. of Minneso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400 Medaka mutations (Kyo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buClr>
                <a:srgbClr val="ffffff"/>
              </a:buClr>
              <a:buFont typeface="Courier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CToL - taxonomy &amp; phyloge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ffffff"/>
              </a:buClr>
              <a:buFont typeface="Courier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OBO-discuss email list for discuss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143000"/>
            <a:ext cx="15228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" y="65530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1954080"/>
            <a:ext cx="63244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Melissa Haendel -anatomy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Doug Howe -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rik Segerdell - P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ierra Taylor - database sch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295280" y="5410080"/>
            <a:ext cx="67820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upported by NIH P41 HG002659 and U54 HG00265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University of Oregon, Eugene, Oreg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61480" y="990720"/>
            <a:ext cx="21315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://zfin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Hum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Anim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228564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(disease mod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457200"/>
            <a:ext cx="797040" cy="990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522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Zebrafish disease model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62520" y="259092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38862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295280" y="8377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Annotate zebrafish pheno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dentify human diseas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Example - holoprosencepha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urie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  <a:ea typeface="ＭＳ Ｐゴシック"/>
              </a:rPr>
              <a:t>-/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5493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enotyp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1949400"/>
                <a:tab algn="l" pos="37101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charact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=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entit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attribu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+  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ＭＳ Ｐゴシック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3327480"/>
            <a:ext cx="2438640" cy="23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22:04:12Z</dcterms:created>
  <dc:creator>Erik Segerdell</dc:creator>
  <dc:description/>
  <dc:language>en-US</dc:language>
  <cp:lastModifiedBy>Monte Westerfield</cp:lastModifiedBy>
  <cp:lastPrinted>2005-11-18T02:00:04Z</cp:lastPrinted>
  <dcterms:modified xsi:type="dcterms:W3CDTF">2005-11-19T00:33:27Z</dcterms:modified>
  <cp:revision>88</cp:revision>
  <dc:subject/>
  <dc:title>Ontologies for Gene Expression and Phenotypes</dc:title>
</cp:coreProperties>
</file>